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143719"/>
        <c:axId val="94329593"/>
      </c:barChart>
      <c:catAx>
        <c:axId val="671437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29593"/>
        <c:crosses val="autoZero"/>
        <c:auto val="1"/>
        <c:lblAlgn val="ctr"/>
        <c:lblOffset val="100"/>
        <c:noMultiLvlLbl val="0"/>
      </c:catAx>
      <c:valAx>
        <c:axId val="943295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1437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C50E-6118-4F38-BABD-3A38A0A8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A213-3006-499D-8B2F-55E1DA5F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C7FF-5CF1-4355-9CE6-8E2C34734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8D8C-E626-47E7-82D6-DA94D6F77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49A9-4FD7-4721-9453-8EF07900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1BC2-81EF-414D-978D-9276AB0D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4115-95AB-49B3-B48B-6DB6E87E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5CA9-DAF3-4482-B945-8492A01D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56E0-166A-41C1-8B59-B1EC1C33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1ECB-53B0-4969-9541-B68098F4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081C-A248-4FCB-982D-8B554260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B273-C2CF-4DF8-9294-F089ECD5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50AF2-4900-4520-9BAE-48C704715F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