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11235"/>
        <c:axId val="69937406"/>
      </c:barChart>
      <c:catAx>
        <c:axId val="29411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7406"/>
        <c:crosses val="autoZero"/>
        <c:auto val="1"/>
        <c:lblAlgn val="ctr"/>
        <c:lblOffset val="100"/>
        <c:noMultiLvlLbl val="0"/>
      </c:catAx>
      <c:valAx>
        <c:axId val="69937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11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6FE-2F0A-4C57-8C5D-3EB68BBB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2C0-324E-40F7-BA3F-AF9F0B3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287-F4C4-4C19-BD08-855A2F3E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D63-D8A3-4116-B443-084D82B4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DE6-EF3C-4F89-A864-4953AE95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742-B60E-4C14-9C97-072D479F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15F-8594-462F-85CC-D588AB1A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216-3CB9-4CEC-945E-58BCE12D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667-C7AA-4C15-9C43-27227736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773-8542-4E27-B1C4-43F0C2BA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18F-279B-41CA-BA8B-DB4BDEE0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91B-78BF-4849-BB5D-0FBB3B77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295DE-A91D-4D1D-B781-392037CB57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