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1641"/>
        <c:axId val="76761681"/>
      </c:barChart>
      <c:catAx>
        <c:axId val="87351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1681"/>
        <c:crosses val="autoZero"/>
        <c:auto val="1"/>
        <c:lblAlgn val="ctr"/>
        <c:lblOffset val="100"/>
        <c:noMultiLvlLbl val="0"/>
      </c:catAx>
      <c:valAx>
        <c:axId val="76761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1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335-6CDB-49B3-B3A1-D6E59475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C6F-7DBB-4C65-AD22-E03E3F7C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4B4-60A8-4B1C-97EC-0F3FF8A3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4C2-39B2-4D98-B78A-75724AE0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A4D-FCB8-434B-9977-9729A8E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D1F-7D9E-4FF5-90F9-94043679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338-19AA-4008-B356-E2A62A67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7B5-2AA9-4C76-BE61-2B5097E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50C-8A60-4C04-85BD-178916CD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1A9-A1A0-44D3-88AC-AC3FADAA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7AE-001F-4EB1-AE6F-B891DC3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B5E-2920-4118-8DA0-17A637B4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52350-FB63-4E24-AAA6-474AA4B44A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