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41614"/>
        <c:axId val="77810172"/>
      </c:barChart>
      <c:catAx>
        <c:axId val="27341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10172"/>
        <c:crosses val="autoZero"/>
        <c:auto val="1"/>
        <c:lblAlgn val="ctr"/>
        <c:lblOffset val="100"/>
        <c:noMultiLvlLbl val="0"/>
      </c:catAx>
      <c:valAx>
        <c:axId val="77810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41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633-5B9B-402D-9EF4-277A47E6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C95-7843-4ACF-9F8E-F2DD3890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D7E-4F88-4D9F-8876-1DEFC706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BB32-EC84-49BA-B2EA-74E9DE2E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FC8-22A6-4025-8F67-67830FE8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775-97A0-452D-82A1-97D7BD0C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8B9-E896-41FD-8084-ED85E6AB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58D-CA6F-442B-9393-B6D485F5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BBF-039F-4A78-9340-7E1EE9BC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66E-FF51-4582-82AF-18709A7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652-FE29-4E5B-8446-68903DDD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D4C-D115-42D3-AF0E-3438E9BB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1E4E3-65EE-4413-B669-1A9A47AB4E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