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98617"/>
        <c:axId val="70072404"/>
      </c:barChart>
      <c:catAx>
        <c:axId val="84498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72404"/>
        <c:crosses val="autoZero"/>
        <c:auto val="1"/>
        <c:lblAlgn val="ctr"/>
        <c:lblOffset val="100"/>
        <c:noMultiLvlLbl val="0"/>
      </c:catAx>
      <c:valAx>
        <c:axId val="70072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98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C00-3431-4E61-9BAF-98E121EC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66A-4211-44AE-8141-0592330E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CF8-93DE-4D9A-8C85-27FFCFC6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D3D-6625-41B5-ADC1-4D069F4F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C9A-39AB-4EB7-9315-17D235B4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741-7AF4-4A53-977E-BDB78205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750-BDB3-4FA7-ADB2-9ACD2B32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1DE-126B-4FC9-B9E2-07605B36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37A-221B-486D-A69D-19B88196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404-CD8A-4961-89A4-3F68797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826-2B56-4DCF-939A-93C88D5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22B7-1649-4244-8C9D-F5378B9C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B5DD-4267-45A0-B189-542EC671C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