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27993"/>
        <c:axId val="1779737"/>
      </c:barChart>
      <c:catAx>
        <c:axId val="160279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9737"/>
        <c:crosses val="autoZero"/>
        <c:auto val="1"/>
        <c:lblAlgn val="ctr"/>
        <c:lblOffset val="100"/>
        <c:noMultiLvlLbl val="0"/>
      </c:catAx>
      <c:valAx>
        <c:axId val="1779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279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69F7-9356-44D0-8F61-772220F4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1CD-5C1E-41F1-8CFE-1C076A64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C07-9098-40D5-A00C-E395FF98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F2F-5098-4899-9093-8129D06A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647-E59F-4987-8D00-0A74BB0A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7B2-84D7-4CBC-94F7-C1F17883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905-8F95-4AC4-8E7D-CD31A481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490-8546-4EEE-9FC6-03F89FAC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404-5EBC-4833-AC0A-388903AE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B51-0350-437F-A4A7-9015B944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C7F-4B7E-4C0C-9384-9A142EB2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F49-1A79-47AE-945C-A80FA651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C537C-A37E-43DD-9F60-8291AFCDE1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