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32449"/>
        <c:axId val="31930521"/>
      </c:barChart>
      <c:catAx>
        <c:axId val="77832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30521"/>
        <c:crosses val="autoZero"/>
        <c:auto val="1"/>
        <c:lblAlgn val="ctr"/>
        <c:lblOffset val="100"/>
        <c:noMultiLvlLbl val="0"/>
      </c:catAx>
      <c:valAx>
        <c:axId val="31930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32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48D-5B43-4005-90CC-BC0F16F8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9E5-4768-4ACE-A6EA-CCBEA057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B7B-6A7C-4A2B-8B73-2260DE46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EB9-AF35-4C67-AB15-6A0AE9BD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2AA-447E-470E-BFFE-86668620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410-FE43-4FD1-A1BA-EC3352A0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327-5534-4FDB-B162-A99F08CA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E6F-6EA6-4CBE-BC72-4EAC1AD7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514-A0B9-459D-A040-BD45027F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0B4-18AD-4F36-A914-538808B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E0D-138A-4B27-B343-076EB281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867-493C-4A3C-947D-B52BE549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F228A-EFFB-4F15-9CE7-EEC4EF8829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