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47871"/>
        <c:axId val="78096120"/>
      </c:barChart>
      <c:catAx>
        <c:axId val="19747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96120"/>
        <c:crosses val="autoZero"/>
        <c:auto val="1"/>
        <c:lblAlgn val="ctr"/>
        <c:lblOffset val="100"/>
        <c:noMultiLvlLbl val="0"/>
      </c:catAx>
      <c:valAx>
        <c:axId val="78096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7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617-F9CA-4595-A900-6BADF486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D0E-1DAC-48EA-A7BA-49A0AE4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C9B-447E-4E48-9554-43E1E084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FD6-D5C8-4398-A72E-79DEAD9C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667-A831-4CBB-B397-2B07D24D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CF6-7D4A-46C2-BF0A-B90B439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2A9-1F05-4A9C-B6B5-B1CDBBD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9C2-929B-4501-8620-274ED4D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9A8-BFC2-4BE0-B89D-9C43ADF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0B7-8E24-4E0B-8332-D52075C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A52-AA7C-45DC-BA86-029A455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61C-87D0-4761-BBC1-A8FDB90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6E873-70CA-4E79-9092-CC28AAD99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