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431137"/>
        <c:axId val="17322596"/>
      </c:barChart>
      <c:catAx>
        <c:axId val="124311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322596"/>
        <c:crosses val="autoZero"/>
        <c:auto val="1"/>
        <c:lblAlgn val="ctr"/>
        <c:lblOffset val="100"/>
        <c:noMultiLvlLbl val="0"/>
      </c:catAx>
      <c:valAx>
        <c:axId val="173225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4311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D012-0354-4A48-ABCE-0F30951F5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6D8C-AF28-4D7D-BAAA-8FA169332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CC59-52B5-47B9-92C5-57B7D48DE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58A8-8A54-4148-B8F3-209163536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EA8A-E8CA-4DD9-95D0-520ABB743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A2C4-9BB4-4CE0-B092-3D9F99651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0CD4-C2A0-435F-B6B7-E95739C83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2A76-B406-41E2-9147-B79674407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5A5A-32E0-42AE-B240-806CA9458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2C03-FCBB-4A94-B71E-EE4F9360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BD8E-ABDE-4B6C-A42B-84F80100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7FA8-4CD4-4E18-A8E4-8DC51EC8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0D62E1-3C5F-4A6E-ABC2-DD9265938C5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