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13391"/>
        <c:axId val="8547937"/>
      </c:barChart>
      <c:catAx>
        <c:axId val="905133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7937"/>
        <c:crosses val="autoZero"/>
        <c:auto val="1"/>
        <c:lblAlgn val="ctr"/>
        <c:lblOffset val="100"/>
        <c:noMultiLvlLbl val="0"/>
      </c:catAx>
      <c:valAx>
        <c:axId val="85479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133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D97-5014-4C24-8465-77772B7B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53EE-903C-4AC8-A569-D3028EAD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131-F409-4928-BE9C-3E167B64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A57-7F80-4827-B27D-36E5D995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71DF-24BB-463E-9314-D307C09E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B1DF-EA5E-4841-99C6-285D3961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A993-16A4-4531-BA80-2111DFF7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CE3-1998-4952-B9C2-7DA8BE20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68FE-F854-4A51-B05E-171639EC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A09-BDE6-450B-9E21-1A9FC92D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4C6-0EDB-430A-B85E-0C1778C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FC70-A299-4FD4-A8E0-FAB773C0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ACE4D2-8E6C-4EAF-96DF-287E37A971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